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3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1.png" ContentType="image/png"/>
  <Override PartName="/ppt/media/image19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5D2-D597-46B1-AD23-6E4C022B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9082-6481-4471-854E-118E4F7C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ACC-9815-4E79-A34F-3A922C56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17B7-BC2D-4489-A2D8-DFF2FA31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270-6D5B-4B6B-9A8D-EC1B1ADA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EBE-DF95-4017-BAC7-C8916DEC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E3D-8730-4608-9AC3-EB1A9656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6B9-1C78-40F5-8A8E-98C0CCD5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354-5F00-415D-AB3E-61B11347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FB63-C96D-4BC1-A3B8-F351731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361-5B71-4E08-AEC7-C3728EE2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366-1688-4A39-B522-A7EEF190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6825-3A51-4487-A69D-972D2E5E3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" Target="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17.gif"/><Relationship Id="rId4" Type="http://schemas.openxmlformats.org/officeDocument/2006/relationships/image" Target="../media/image9.png"/><Relationship Id="rId5" Type="http://schemas.openxmlformats.org/officeDocument/2006/relationships/hyperlink" Target="file:///usr/lib/libreoffice/share/gallery/sounds/applause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14.gif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2.gif"/><Relationship Id="rId4" Type="http://schemas.openxmlformats.org/officeDocument/2006/relationships/image" Target="../media/image19.gif"/><Relationship Id="rId5" Type="http://schemas.openxmlformats.org/officeDocument/2006/relationships/image" Target="../media/image13.gif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hyperlink" Target="file:///tmp/home/.config/libreoffice/4/user/gallery/explode.wav" TargetMode="External"/><Relationship Id="rId8" Type="http://schemas.openxmlformats.org/officeDocument/2006/relationships/hyperlink" Target="file:///tmp/home/.config/libreoffice/4/user/gallery/explode.wav" TargetMode="External"/><Relationship Id="rId9" Type="http://schemas.openxmlformats.org/officeDocument/2006/relationships/slide" Target="slide20.xml"/><Relationship Id="rId10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7.gif"/><Relationship Id="rId4" Type="http://schemas.openxmlformats.org/officeDocument/2006/relationships/image" Target="../media/image18.gif"/><Relationship Id="rId5" Type="http://schemas.openxmlformats.org/officeDocument/2006/relationships/slide" Target="slide20.xm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14.gif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5.gif"/><Relationship Id="rId4" Type="http://schemas.openxmlformats.org/officeDocument/2006/relationships/hyperlink" Target="file:///usr/lib/libreoffice/share/gallery/sounds/applause.wav" TargetMode="External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hyperlink" Target="file:///tmp/home/.config/libreoffice/4/user/gallery/explod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image" Target="../media/image12.gif"/><Relationship Id="rId9" Type="http://schemas.openxmlformats.org/officeDocument/2006/relationships/image" Target="../media/image11.gif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image" Target="../media/image4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7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hyperlink" Target="file:///usr/lib/libreoffice/share/gallery/sounds/applause.wav" TargetMode="Externa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slide" Target="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hyperlink" Target="file:///tmp/home/.config/libreoffice/4/user/gallery/explode.wav" TargetMode="Externa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hyperlink" Target="file:///usr/lib/libreoffice/share/gallery/sounds/applause.wav" TargetMode="External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gif"/><Relationship Id="rId3" Type="http://schemas.openxmlformats.org/officeDocument/2006/relationships/image" Target="../media/image4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3d_fishaquarium2_215.gif"/>
          <p:cNvPicPr/>
          <p:nvPr/>
        </p:nvPicPr>
        <p:blipFill>
          <a:blip r:embed="rId2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1371600"/>
            <a:ext cx="762120" cy="7621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533520"/>
            <a:ext cx="762120" cy="761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371600"/>
            <a:ext cx="762120" cy="7621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533520"/>
            <a:ext cx="762120" cy="761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371600"/>
            <a:ext cx="762120" cy="7621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533520"/>
            <a:ext cx="838080" cy="761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1295280"/>
            <a:ext cx="838080" cy="7621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533520"/>
            <a:ext cx="838080" cy="7617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1295280"/>
            <a:ext cx="838080" cy="76212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3581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74320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581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74320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5053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274320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77120" y="358128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43800" y="274320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Tahoma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school6.gif"/>
          <p:cNvPicPr/>
          <p:nvPr/>
        </p:nvPicPr>
        <p:blipFill>
          <a:blip r:embed="rId2"/>
          <a:stretch/>
        </p:blipFill>
        <p:spPr>
          <a:xfrm>
            <a:off x="5638680" y="-380880"/>
            <a:ext cx="3200400" cy="5333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fish.gif"/>
          <p:cNvPicPr/>
          <p:nvPr/>
        </p:nvPicPr>
        <p:blipFill>
          <a:blip r:embed="rId3"/>
          <a:stretch/>
        </p:blipFill>
        <p:spPr>
          <a:xfrm>
            <a:off x="228600" y="4572000"/>
            <a:ext cx="1981080" cy="2048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29000" y="198108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1676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1052200">
            <a:off x="914400" y="914400"/>
            <a:ext cx="4952880" cy="1600200"/>
          </a:xfrm>
          <a:prstGeom prst="wedgeEllipseCallout">
            <a:avLst>
              <a:gd name="adj1" fmla="val 67810"/>
              <a:gd name="adj2" fmla="val 61430"/>
            </a:avLst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CO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fish_028.gif"/>
          <p:cNvPicPr/>
          <p:nvPr/>
        </p:nvPicPr>
        <p:blipFill>
          <a:blip r:embed="rId5"/>
          <a:stretch/>
        </p:blipFill>
        <p:spPr>
          <a:xfrm>
            <a:off x="6858000" y="5334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21217200">
            <a:off x="2514600" y="3580920"/>
            <a:ext cx="3733920" cy="1828800"/>
          </a:xfrm>
          <a:prstGeom prst="cloudCallout">
            <a:avLst>
              <a:gd name="adj1" fmla="val 70962"/>
              <a:gd name="adj2" fmla="val 88194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I FOST FOARTE AT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flamingo.gif"/>
          <p:cNvPicPr/>
          <p:nvPr/>
        </p:nvPicPr>
        <p:blipFill>
          <a:blip r:embed="rId2"/>
          <a:stretch/>
        </p:blipFill>
        <p:spPr>
          <a:xfrm>
            <a:off x="357120" y="285840"/>
            <a:ext cx="1562040" cy="1904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female-guppy.gif"/>
          <p:cNvPicPr/>
          <p:nvPr/>
        </p:nvPicPr>
        <p:blipFill>
          <a:blip r:embed="rId3"/>
          <a:stretch/>
        </p:blipFill>
        <p:spPr>
          <a:xfrm>
            <a:off x="3352680" y="6095880"/>
            <a:ext cx="476280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83822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 propoziţia: ,,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Dumneavoastră aveţ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numai  gânduri bune.”,cuvânt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3200" spc="-1" strike="noStrike">
                <a:solidFill>
                  <a:srgbClr val="000000"/>
                </a:solidFill>
                <a:latin typeface="Arial"/>
              </a:rPr>
              <a:t>dumneavoastră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s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666880"/>
            <a:ext cx="6248160" cy="838440"/>
          </a:xfrm>
          <a:prstGeom prst="flowChartPreparation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. Pronume de politeţ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3581280"/>
            <a:ext cx="6324480" cy="762120"/>
          </a:xfrm>
          <a:prstGeom prst="flowChartPreparation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B. Verb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4419720"/>
            <a:ext cx="6248520" cy="838080"/>
          </a:xfrm>
          <a:prstGeom prst="flowChartPreparation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C. Substantiv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  <a:hlinkClick r:id="rId5"/>
          </p:cNvPr>
          <p:cNvSpPr/>
          <p:nvPr/>
        </p:nvSpPr>
        <p:spPr>
          <a:xfrm>
            <a:off x="1752480" y="2666880"/>
            <a:ext cx="5639040" cy="838440"/>
          </a:xfrm>
          <a:custGeom>
            <a:avLst/>
            <a:gdLst>
              <a:gd name="textAreaLeft" fmla="*/ 54360 w 5639040"/>
              <a:gd name="textAreaRight" fmla="*/ 5584680 w 5639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145221" h="21600">
                <a:moveTo>
                  <a:pt x="0" y="0"/>
                </a:moveTo>
                <a:lnTo>
                  <a:pt x="145221" y="0"/>
                </a:lnTo>
                <a:lnTo>
                  <a:pt x="145221" y="21600"/>
                </a:lnTo>
                <a:lnTo>
                  <a:pt x="0" y="21600"/>
                </a:lnTo>
                <a:close/>
              </a:path>
              <a:path fill="lightenLess" w="145221" h="21600">
                <a:moveTo>
                  <a:pt x="0" y="0"/>
                </a:moveTo>
                <a:lnTo>
                  <a:pt x="145221" y="0"/>
                </a:lnTo>
                <a:lnTo>
                  <a:pt x="143821" y="1400"/>
                </a:lnTo>
                <a:lnTo>
                  <a:pt x="1400" y="1400"/>
                </a:lnTo>
                <a:close/>
              </a:path>
              <a:path fill="darken" w="145221" h="21600">
                <a:moveTo>
                  <a:pt x="145221" y="0"/>
                </a:moveTo>
                <a:lnTo>
                  <a:pt x="145221" y="21600"/>
                </a:lnTo>
                <a:lnTo>
                  <a:pt x="143821" y="20200"/>
                </a:lnTo>
                <a:lnTo>
                  <a:pt x="143821" y="1400"/>
                </a:lnTo>
                <a:close/>
              </a:path>
              <a:path fill="darkenLess" w="145221" h="21600">
                <a:moveTo>
                  <a:pt x="145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821" y="20200"/>
                </a:lnTo>
                <a:close/>
              </a:path>
              <a:path fill="lighten" w="145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5221" h="21600">
                <a:moveTo>
                  <a:pt x="65604" y="3794"/>
                </a:moveTo>
                <a:lnTo>
                  <a:pt x="79617" y="10800"/>
                </a:lnTo>
                <a:lnTo>
                  <a:pt x="656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3886200" y="3809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6" action="ppaction://hlinksldjump"/>
          </p:cNvPr>
          <p:cNvSpPr/>
          <p:nvPr/>
        </p:nvSpPr>
        <p:spPr>
          <a:xfrm>
            <a:off x="1523880" y="3581280"/>
            <a:ext cx="6324840" cy="762120"/>
          </a:xfrm>
          <a:custGeom>
            <a:avLst/>
            <a:gdLst>
              <a:gd name="textAreaLeft" fmla="*/ 49320 w 6324840"/>
              <a:gd name="textAreaRight" fmla="*/ 6275520 w 63248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79184" h="21600">
                <a:moveTo>
                  <a:pt x="0" y="0"/>
                </a:moveTo>
                <a:lnTo>
                  <a:pt x="179184" y="0"/>
                </a:lnTo>
                <a:lnTo>
                  <a:pt x="179184" y="21600"/>
                </a:lnTo>
                <a:lnTo>
                  <a:pt x="0" y="21600"/>
                </a:lnTo>
                <a:close/>
              </a:path>
              <a:path fill="lightenLess" w="179184" h="21600">
                <a:moveTo>
                  <a:pt x="0" y="0"/>
                </a:moveTo>
                <a:lnTo>
                  <a:pt x="179184" y="0"/>
                </a:lnTo>
                <a:lnTo>
                  <a:pt x="177784" y="1400"/>
                </a:lnTo>
                <a:lnTo>
                  <a:pt x="1400" y="1400"/>
                </a:lnTo>
                <a:close/>
              </a:path>
              <a:path fill="darken" w="179184" h="21600">
                <a:moveTo>
                  <a:pt x="179184" y="0"/>
                </a:moveTo>
                <a:lnTo>
                  <a:pt x="179184" y="21600"/>
                </a:lnTo>
                <a:lnTo>
                  <a:pt x="177784" y="20200"/>
                </a:lnTo>
                <a:lnTo>
                  <a:pt x="177784" y="1400"/>
                </a:lnTo>
                <a:close/>
              </a:path>
              <a:path fill="darkenLess" w="179184" h="21600">
                <a:moveTo>
                  <a:pt x="1791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7784" y="20200"/>
                </a:lnTo>
                <a:close/>
              </a:path>
              <a:path fill="lighten" w="1791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79184" h="21600">
                <a:moveTo>
                  <a:pt x="82586" y="3794"/>
                </a:moveTo>
                <a:lnTo>
                  <a:pt x="96599" y="10800"/>
                </a:lnTo>
                <a:lnTo>
                  <a:pt x="825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7" action="ppaction://hlinksldjump"/>
          </p:cNvPr>
          <p:cNvSpPr/>
          <p:nvPr/>
        </p:nvSpPr>
        <p:spPr>
          <a:xfrm>
            <a:off x="1905120" y="4419720"/>
            <a:ext cx="5715000" cy="838080"/>
          </a:xfrm>
          <a:custGeom>
            <a:avLst/>
            <a:gdLst>
              <a:gd name="textAreaLeft" fmla="*/ 54000 w 5715000"/>
              <a:gd name="textAreaRight" fmla="*/ 5661000 w 5715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7240" h="21600">
                <a:moveTo>
                  <a:pt x="0" y="0"/>
                </a:moveTo>
                <a:lnTo>
                  <a:pt x="147240" y="0"/>
                </a:lnTo>
                <a:lnTo>
                  <a:pt x="147240" y="21600"/>
                </a:lnTo>
                <a:lnTo>
                  <a:pt x="0" y="21600"/>
                </a:lnTo>
                <a:close/>
              </a:path>
              <a:path fill="lightenLess" w="147240" h="21600">
                <a:moveTo>
                  <a:pt x="0" y="0"/>
                </a:moveTo>
                <a:lnTo>
                  <a:pt x="147240" y="0"/>
                </a:lnTo>
                <a:lnTo>
                  <a:pt x="145840" y="1400"/>
                </a:lnTo>
                <a:lnTo>
                  <a:pt x="1400" y="1400"/>
                </a:lnTo>
                <a:close/>
              </a:path>
              <a:path fill="darken" w="147240" h="21600">
                <a:moveTo>
                  <a:pt x="147240" y="0"/>
                </a:moveTo>
                <a:lnTo>
                  <a:pt x="147240" y="21600"/>
                </a:lnTo>
                <a:lnTo>
                  <a:pt x="145840" y="20200"/>
                </a:lnTo>
                <a:lnTo>
                  <a:pt x="145840" y="1400"/>
                </a:lnTo>
                <a:close/>
              </a:path>
              <a:path fill="darkenLess" w="147240" h="21600">
                <a:moveTo>
                  <a:pt x="147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840" y="20200"/>
                </a:lnTo>
                <a:close/>
              </a:path>
              <a:path fill="lighten" w="147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7240" h="21600">
                <a:moveTo>
                  <a:pt x="66613" y="3794"/>
                </a:moveTo>
                <a:lnTo>
                  <a:pt x="80626" y="10800"/>
                </a:lnTo>
                <a:lnTo>
                  <a:pt x="6661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8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fish_028.gif"/>
          <p:cNvPicPr/>
          <p:nvPr/>
        </p:nvPicPr>
        <p:blipFill>
          <a:blip r:embed="rId2"/>
          <a:stretch/>
        </p:blipFill>
        <p:spPr>
          <a:xfrm>
            <a:off x="5257800" y="1981080"/>
            <a:ext cx="4191120" cy="426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 rot="1044600">
            <a:off x="1422360" y="528480"/>
            <a:ext cx="4724280" cy="1683000"/>
          </a:xfrm>
          <a:prstGeom prst="cloudCallout">
            <a:avLst>
              <a:gd name="adj1" fmla="val 71333"/>
              <a:gd name="adj2" fmla="val 5731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I FOST FOARTE ATENT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532000">
            <a:off x="838080" y="2895480"/>
            <a:ext cx="4572000" cy="1524240"/>
          </a:xfrm>
          <a:prstGeom prst="cloudCallout">
            <a:avLst>
              <a:gd name="adj1" fmla="val 77356"/>
              <a:gd name="adj2" fmla="val 71541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FELICITĂRI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fish_bowl.gif"/>
          <p:cNvPicPr/>
          <p:nvPr/>
        </p:nvPicPr>
        <p:blipFill>
          <a:blip r:embed="rId3"/>
          <a:stretch/>
        </p:blipFill>
        <p:spPr>
          <a:xfrm>
            <a:off x="7543800" y="762120"/>
            <a:ext cx="1066680" cy="10573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fish_bowl.gif"/>
          <p:cNvPicPr/>
          <p:nvPr/>
        </p:nvPicPr>
        <p:blipFill>
          <a:blip r:embed="rId4"/>
          <a:stretch/>
        </p:blipFill>
        <p:spPr>
          <a:xfrm>
            <a:off x="838080" y="5257800"/>
            <a:ext cx="1067040" cy="105732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5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flamingo.gif"/>
          <p:cNvPicPr/>
          <p:nvPr/>
        </p:nvPicPr>
        <p:blipFill>
          <a:blip r:embed="rId2"/>
          <a:stretch/>
        </p:blipFill>
        <p:spPr>
          <a:xfrm>
            <a:off x="380880" y="4572000"/>
            <a:ext cx="1562400" cy="190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shark_1.gif"/>
          <p:cNvPicPr/>
          <p:nvPr/>
        </p:nvPicPr>
        <p:blipFill>
          <a:blip r:embed="rId3"/>
          <a:stretch/>
        </p:blipFill>
        <p:spPr>
          <a:xfrm>
            <a:off x="-1676520" y="-228600"/>
            <a:ext cx="7162920" cy="5410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rot="21059400">
            <a:off x="3809880" y="990720"/>
            <a:ext cx="4800600" cy="1904760"/>
          </a:xfrm>
          <a:prstGeom prst="cloudCallout">
            <a:avLst>
              <a:gd name="adj1" fmla="val -68143"/>
              <a:gd name="adj2" fmla="val 25814"/>
            </a:avLst>
          </a:prstGeom>
          <a:solidFill>
            <a:srgbClr val="33cc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AI GREŞ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3809880"/>
            <a:ext cx="6019560" cy="1524240"/>
          </a:xfrm>
          <a:prstGeom prst="cloudCallout">
            <a:avLst>
              <a:gd name="adj1" fmla="val -34046"/>
              <a:gd name="adj2" fmla="val -76250"/>
            </a:avLst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ai încearcă     odat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4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218960" y="10666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cercuieşte forma  neaccentuată  a pronumelui personal ,,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eu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33720" y="2209680"/>
            <a:ext cx="5410080" cy="838440"/>
          </a:xfrm>
          <a:prstGeom prst="flowChartTerminator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. pe mine mă, mie îmi,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3124080"/>
            <a:ext cx="5410080" cy="914400"/>
          </a:xfrm>
          <a:prstGeom prst="flowChartTerminator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B. pe tine te, ţie îţi, ţ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4114800"/>
            <a:ext cx="5333760" cy="914400"/>
          </a:xfrm>
          <a:prstGeom prst="flowChartTerminator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. lui, îi, i                         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89640" y="25653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school6.gif"/>
          <p:cNvPicPr/>
          <p:nvPr/>
        </p:nvPicPr>
        <p:blipFill>
          <a:blip r:embed="rId3"/>
          <a:stretch/>
        </p:blipFill>
        <p:spPr>
          <a:xfrm>
            <a:off x="7358040" y="4038480"/>
            <a:ext cx="1785960" cy="2819520"/>
          </a:xfrm>
          <a:prstGeom prst="rect">
            <a:avLst/>
          </a:prstGeom>
          <a:ln w="0">
            <a:noFill/>
          </a:ln>
        </p:spPr>
      </p:pic>
      <p:pic>
        <p:nvPicPr>
          <p:cNvPr id="158" name="Content Placeholder 3" descr="fish_bowl1.gif"/>
          <p:cNvPicPr/>
          <p:nvPr/>
        </p:nvPicPr>
        <p:blipFill>
          <a:blip r:embed="rId4"/>
          <a:stretch/>
        </p:blipFill>
        <p:spPr>
          <a:xfrm>
            <a:off x="228600" y="3808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fish.gif"/>
          <p:cNvPicPr/>
          <p:nvPr/>
        </p:nvPicPr>
        <p:blipFill>
          <a:blip r:embed="rId5"/>
          <a:stretch/>
        </p:blipFill>
        <p:spPr>
          <a:xfrm>
            <a:off x="228600" y="4572000"/>
            <a:ext cx="1981080" cy="20480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2133720"/>
            <a:ext cx="6172200" cy="990360"/>
          </a:xfrm>
          <a:custGeom>
            <a:avLst/>
            <a:gdLst>
              <a:gd name="textAreaLeft" fmla="*/ 64080 w 6172200"/>
              <a:gd name="textAreaRight" fmla="*/ 6108120 w 6172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134576" h="21600">
                <a:moveTo>
                  <a:pt x="0" y="0"/>
                </a:moveTo>
                <a:lnTo>
                  <a:pt x="134576" y="0"/>
                </a:lnTo>
                <a:lnTo>
                  <a:pt x="134576" y="21600"/>
                </a:lnTo>
                <a:lnTo>
                  <a:pt x="0" y="21600"/>
                </a:lnTo>
                <a:close/>
              </a:path>
              <a:path fill="lightenLess" w="134576" h="21600">
                <a:moveTo>
                  <a:pt x="0" y="0"/>
                </a:moveTo>
                <a:lnTo>
                  <a:pt x="134576" y="0"/>
                </a:lnTo>
                <a:lnTo>
                  <a:pt x="133176" y="1400"/>
                </a:lnTo>
                <a:lnTo>
                  <a:pt x="1400" y="1400"/>
                </a:lnTo>
                <a:close/>
              </a:path>
              <a:path fill="darken" w="134576" h="21600">
                <a:moveTo>
                  <a:pt x="134576" y="0"/>
                </a:moveTo>
                <a:lnTo>
                  <a:pt x="134576" y="21600"/>
                </a:lnTo>
                <a:lnTo>
                  <a:pt x="133176" y="20200"/>
                </a:lnTo>
                <a:lnTo>
                  <a:pt x="133176" y="1400"/>
                </a:lnTo>
                <a:close/>
              </a:path>
              <a:path fill="darkenLess" w="134576" h="21600">
                <a:moveTo>
                  <a:pt x="134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3176" y="20200"/>
                </a:lnTo>
                <a:close/>
              </a:path>
              <a:path fill="lighten" w="134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4576" h="21600">
                <a:moveTo>
                  <a:pt x="60282" y="3794"/>
                </a:moveTo>
                <a:lnTo>
                  <a:pt x="74295" y="10800"/>
                </a:lnTo>
                <a:lnTo>
                  <a:pt x="6028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7"/>
          </p:cNvPr>
          <p:cNvSpPr/>
          <p:nvPr/>
        </p:nvSpPr>
        <p:spPr>
          <a:xfrm>
            <a:off x="2666880" y="3124080"/>
            <a:ext cx="4876920" cy="914400"/>
          </a:xfrm>
          <a:custGeom>
            <a:avLst/>
            <a:gdLst>
              <a:gd name="textAreaLeft" fmla="*/ 59040 w 4876920"/>
              <a:gd name="textAreaRight" fmla="*/ 4817880 w 4876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15166" h="21600">
                <a:moveTo>
                  <a:pt x="0" y="0"/>
                </a:moveTo>
                <a:lnTo>
                  <a:pt x="115166" y="0"/>
                </a:lnTo>
                <a:lnTo>
                  <a:pt x="115166" y="21600"/>
                </a:lnTo>
                <a:lnTo>
                  <a:pt x="0" y="21600"/>
                </a:lnTo>
                <a:close/>
              </a:path>
              <a:path fill="lightenLess" w="115166" h="21600">
                <a:moveTo>
                  <a:pt x="0" y="0"/>
                </a:moveTo>
                <a:lnTo>
                  <a:pt x="115166" y="0"/>
                </a:lnTo>
                <a:lnTo>
                  <a:pt x="113766" y="1400"/>
                </a:lnTo>
                <a:lnTo>
                  <a:pt x="1400" y="1400"/>
                </a:lnTo>
                <a:close/>
              </a:path>
              <a:path fill="darken" w="115166" h="21600">
                <a:moveTo>
                  <a:pt x="115166" y="0"/>
                </a:moveTo>
                <a:lnTo>
                  <a:pt x="115166" y="21600"/>
                </a:lnTo>
                <a:lnTo>
                  <a:pt x="113766" y="20200"/>
                </a:lnTo>
                <a:lnTo>
                  <a:pt x="113766" y="1400"/>
                </a:lnTo>
                <a:close/>
              </a:path>
              <a:path fill="darkenLess" w="115166" h="21600">
                <a:moveTo>
                  <a:pt x="11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66" y="20200"/>
                </a:lnTo>
                <a:close/>
              </a:path>
              <a:path fill="lighten" w="11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5166" h="21600">
                <a:moveTo>
                  <a:pt x="50577" y="3794"/>
                </a:moveTo>
                <a:lnTo>
                  <a:pt x="64589" y="10800"/>
                </a:lnTo>
                <a:lnTo>
                  <a:pt x="505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8"/>
          </p:cNvPr>
          <p:cNvSpPr/>
          <p:nvPr/>
        </p:nvSpPr>
        <p:spPr>
          <a:xfrm>
            <a:off x="2133720" y="4114800"/>
            <a:ext cx="5410080" cy="914400"/>
          </a:xfrm>
          <a:custGeom>
            <a:avLst/>
            <a:gdLst>
              <a:gd name="textAreaLeft" fmla="*/ 59040 w 5410080"/>
              <a:gd name="textAreaRight" fmla="*/ 5351040 w 5410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27755" h="21600">
                <a:moveTo>
                  <a:pt x="0" y="0"/>
                </a:moveTo>
                <a:lnTo>
                  <a:pt x="127755" y="0"/>
                </a:lnTo>
                <a:lnTo>
                  <a:pt x="127755" y="21600"/>
                </a:lnTo>
                <a:lnTo>
                  <a:pt x="0" y="21600"/>
                </a:lnTo>
                <a:close/>
              </a:path>
              <a:path fill="lightenLess" w="127755" h="21600">
                <a:moveTo>
                  <a:pt x="0" y="0"/>
                </a:moveTo>
                <a:lnTo>
                  <a:pt x="127755" y="0"/>
                </a:lnTo>
                <a:lnTo>
                  <a:pt x="126355" y="1400"/>
                </a:lnTo>
                <a:lnTo>
                  <a:pt x="1400" y="1400"/>
                </a:lnTo>
                <a:close/>
              </a:path>
              <a:path fill="darken" w="127755" h="21600">
                <a:moveTo>
                  <a:pt x="127755" y="0"/>
                </a:moveTo>
                <a:lnTo>
                  <a:pt x="127755" y="21600"/>
                </a:lnTo>
                <a:lnTo>
                  <a:pt x="126355" y="20200"/>
                </a:lnTo>
                <a:lnTo>
                  <a:pt x="126355" y="1400"/>
                </a:lnTo>
                <a:close/>
              </a:path>
              <a:path fill="darkenLess" w="127755" h="21600">
                <a:moveTo>
                  <a:pt x="127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6355" y="20200"/>
                </a:lnTo>
                <a:close/>
              </a:path>
              <a:path fill="lighten" w="127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7755" h="21600">
                <a:moveTo>
                  <a:pt x="56871" y="3794"/>
                </a:moveTo>
                <a:lnTo>
                  <a:pt x="70884" y="10800"/>
                </a:lnTo>
                <a:lnTo>
                  <a:pt x="5687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9" action="ppaction://hlinksldjump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school6.gif"/>
          <p:cNvPicPr/>
          <p:nvPr/>
        </p:nvPicPr>
        <p:blipFill>
          <a:blip r:embed="rId2"/>
          <a:stretch/>
        </p:blipFill>
        <p:spPr>
          <a:xfrm>
            <a:off x="6324480" y="0"/>
            <a:ext cx="22100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20935200">
            <a:off x="1447560" y="380520"/>
            <a:ext cx="4724280" cy="1981440"/>
          </a:xfrm>
          <a:prstGeom prst="cloudCallout">
            <a:avLst>
              <a:gd name="adj1" fmla="val 56064"/>
              <a:gd name="adj2" fmla="val 84212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AI FOST FOARTE ATENT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1109200">
            <a:off x="2361960" y="3047760"/>
            <a:ext cx="4419360" cy="1828800"/>
          </a:xfrm>
          <a:prstGeom prst="cloudCallout">
            <a:avLst>
              <a:gd name="adj1" fmla="val -68490"/>
              <a:gd name="adj2" fmla="val 15245"/>
            </a:avLst>
          </a:prstGeom>
          <a:solidFill>
            <a:srgbClr val="33cc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bravoo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flamingo.gif"/>
          <p:cNvPicPr/>
          <p:nvPr/>
        </p:nvPicPr>
        <p:blipFill>
          <a:blip r:embed="rId3"/>
          <a:stretch/>
        </p:blipFill>
        <p:spPr>
          <a:xfrm>
            <a:off x="380880" y="4572000"/>
            <a:ext cx="1562400" cy="19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fish_bowl.gif"/>
          <p:cNvPicPr/>
          <p:nvPr/>
        </p:nvPicPr>
        <p:blipFill>
          <a:blip r:embed="rId4"/>
          <a:stretch/>
        </p:blipFill>
        <p:spPr>
          <a:xfrm>
            <a:off x="7467480" y="5638680"/>
            <a:ext cx="1067040" cy="105732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5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flamingo.gif"/>
          <p:cNvPicPr/>
          <p:nvPr/>
        </p:nvPicPr>
        <p:blipFill>
          <a:blip r:embed="rId2"/>
          <a:stretch/>
        </p:blipFill>
        <p:spPr>
          <a:xfrm>
            <a:off x="533520" y="4572000"/>
            <a:ext cx="1562040" cy="1905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shark_1.gif"/>
          <p:cNvPicPr/>
          <p:nvPr/>
        </p:nvPicPr>
        <p:blipFill>
          <a:blip r:embed="rId3"/>
          <a:stretch/>
        </p:blipFill>
        <p:spPr>
          <a:xfrm>
            <a:off x="-1752480" y="-380880"/>
            <a:ext cx="7162560" cy="5410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 rot="21059400">
            <a:off x="3809880" y="990720"/>
            <a:ext cx="4800600" cy="1904760"/>
          </a:xfrm>
          <a:prstGeom prst="cloudCallout">
            <a:avLst>
              <a:gd name="adj1" fmla="val -68143"/>
              <a:gd name="adj2" fmla="val 25814"/>
            </a:avLst>
          </a:prstGeom>
          <a:solidFill>
            <a:srgbClr val="33cc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AI GREŞ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20965800">
            <a:off x="2819520" y="3504960"/>
            <a:ext cx="6019560" cy="1523880"/>
          </a:xfrm>
          <a:prstGeom prst="cloudCallout">
            <a:avLst>
              <a:gd name="adj1" fmla="val -63819"/>
              <a:gd name="adj2" fmla="val -2893"/>
            </a:avLst>
          </a:prstGeom>
          <a:solidFill>
            <a:srgbClr val="ff9900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ai încearcă     odat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4" action="ppaction://hlinksldjump"/>
          </p:cNvPr>
          <p:cNvSpPr/>
          <p:nvPr/>
        </p:nvSpPr>
        <p:spPr>
          <a:xfrm>
            <a:off x="8686800" y="6477120"/>
            <a:ext cx="433440" cy="38088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4578" h="21600">
                <a:moveTo>
                  <a:pt x="0" y="0"/>
                </a:moveTo>
                <a:lnTo>
                  <a:pt x="24578" y="0"/>
                </a:lnTo>
                <a:lnTo>
                  <a:pt x="24578" y="21600"/>
                </a:lnTo>
                <a:lnTo>
                  <a:pt x="0" y="21600"/>
                </a:lnTo>
                <a:close/>
              </a:path>
              <a:path fill="lightenLess" w="24578" h="21600">
                <a:moveTo>
                  <a:pt x="0" y="0"/>
                </a:moveTo>
                <a:lnTo>
                  <a:pt x="24578" y="0"/>
                </a:lnTo>
                <a:lnTo>
                  <a:pt x="23178" y="1400"/>
                </a:lnTo>
                <a:lnTo>
                  <a:pt x="1400" y="1400"/>
                </a:lnTo>
                <a:close/>
              </a:path>
              <a:path fill="darken" w="24578" h="21600">
                <a:moveTo>
                  <a:pt x="24578" y="0"/>
                </a:moveTo>
                <a:lnTo>
                  <a:pt x="24578" y="21600"/>
                </a:lnTo>
                <a:lnTo>
                  <a:pt x="23178" y="20200"/>
                </a:lnTo>
                <a:lnTo>
                  <a:pt x="23178" y="1400"/>
                </a:lnTo>
                <a:close/>
              </a:path>
              <a:path fill="darkenLess" w="24578" h="21600">
                <a:moveTo>
                  <a:pt x="24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78" y="20200"/>
                </a:lnTo>
                <a:close/>
              </a:path>
              <a:path fill="lighten" w="24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78" h="21600">
                <a:moveTo>
                  <a:pt x="5282" y="10800"/>
                </a:moveTo>
                <a:lnTo>
                  <a:pt x="19295" y="3794"/>
                </a:lnTo>
                <a:lnTo>
                  <a:pt x="1929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În  propoziţia: 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,, El  le-a adus bomboane copiilor.”,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numele personal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o-RO" sz="3200" spc="-1" strike="noStrike">
                <a:solidFill>
                  <a:srgbClr val="000000"/>
                </a:solidFill>
                <a:latin typeface="Arial"/>
              </a:rPr>
              <a:t>,,el”</a:t>
            </a:r>
            <a:r>
              <a:rPr b="0" i="1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este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fish_016.gif"/>
          <p:cNvPicPr/>
          <p:nvPr/>
        </p:nvPicPr>
        <p:blipFill>
          <a:blip r:embed="rId3"/>
          <a:stretch/>
        </p:blipFill>
        <p:spPr>
          <a:xfrm>
            <a:off x="4114800" y="228600"/>
            <a:ext cx="2890800" cy="792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371600" y="2743200"/>
            <a:ext cx="5867280" cy="6094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A. Genul mascu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3505320"/>
            <a:ext cx="5867280" cy="6094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B. Genul feminin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4267080"/>
            <a:ext cx="5867280" cy="6098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C. Genul neutru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nextslide"/>
            <a:hlinkClick r:id="rId4"/>
          </p:cNvPr>
          <p:cNvSpPr/>
          <p:nvPr/>
        </p:nvSpPr>
        <p:spPr>
          <a:xfrm>
            <a:off x="1295280" y="2666880"/>
            <a:ext cx="5943600" cy="685800"/>
          </a:xfrm>
          <a:custGeom>
            <a:avLst/>
            <a:gdLst>
              <a:gd name="textAreaLeft" fmla="*/ 44280 w 5943600"/>
              <a:gd name="textAreaRight" fmla="*/ 5899320 w 5943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87113" h="21600">
                <a:moveTo>
                  <a:pt x="0" y="0"/>
                </a:moveTo>
                <a:lnTo>
                  <a:pt x="187113" y="0"/>
                </a:lnTo>
                <a:lnTo>
                  <a:pt x="187113" y="21600"/>
                </a:lnTo>
                <a:lnTo>
                  <a:pt x="0" y="21600"/>
                </a:lnTo>
                <a:close/>
              </a:path>
              <a:path fill="lightenLess" w="187113" h="21600">
                <a:moveTo>
                  <a:pt x="0" y="0"/>
                </a:moveTo>
                <a:lnTo>
                  <a:pt x="187113" y="0"/>
                </a:lnTo>
                <a:lnTo>
                  <a:pt x="185713" y="1400"/>
                </a:lnTo>
                <a:lnTo>
                  <a:pt x="1400" y="1400"/>
                </a:lnTo>
                <a:close/>
              </a:path>
              <a:path fill="darken" w="187113" h="21600">
                <a:moveTo>
                  <a:pt x="187113" y="0"/>
                </a:moveTo>
                <a:lnTo>
                  <a:pt x="187113" y="21600"/>
                </a:lnTo>
                <a:lnTo>
                  <a:pt x="185713" y="20200"/>
                </a:lnTo>
                <a:lnTo>
                  <a:pt x="185713" y="1400"/>
                </a:lnTo>
                <a:close/>
              </a:path>
              <a:path fill="darkenLess" w="187113" h="21600">
                <a:moveTo>
                  <a:pt x="1871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713" y="20200"/>
                </a:lnTo>
                <a:close/>
              </a:path>
              <a:path fill="lighten" w="1871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7113" h="21600">
                <a:moveTo>
                  <a:pt x="86550" y="3794"/>
                </a:moveTo>
                <a:lnTo>
                  <a:pt x="100563" y="10800"/>
                </a:lnTo>
                <a:lnTo>
                  <a:pt x="8655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5"/>
          </p:cNvPr>
          <p:cNvSpPr/>
          <p:nvPr/>
        </p:nvSpPr>
        <p:spPr>
          <a:xfrm>
            <a:off x="1371600" y="3429000"/>
            <a:ext cx="5867280" cy="685800"/>
          </a:xfrm>
          <a:custGeom>
            <a:avLst/>
            <a:gdLst>
              <a:gd name="textAreaLeft" fmla="*/ 44280 w 5867280"/>
              <a:gd name="textAreaRight" fmla="*/ 5823000 w 5867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84711" h="21600">
                <a:moveTo>
                  <a:pt x="0" y="0"/>
                </a:moveTo>
                <a:lnTo>
                  <a:pt x="184711" y="0"/>
                </a:lnTo>
                <a:lnTo>
                  <a:pt x="184711" y="21600"/>
                </a:lnTo>
                <a:lnTo>
                  <a:pt x="0" y="21600"/>
                </a:lnTo>
                <a:close/>
              </a:path>
              <a:path fill="lightenLess" w="184711" h="21600">
                <a:moveTo>
                  <a:pt x="0" y="0"/>
                </a:moveTo>
                <a:lnTo>
                  <a:pt x="184711" y="0"/>
                </a:lnTo>
                <a:lnTo>
                  <a:pt x="183311" y="1400"/>
                </a:lnTo>
                <a:lnTo>
                  <a:pt x="1400" y="1400"/>
                </a:lnTo>
                <a:close/>
              </a:path>
              <a:path fill="darken" w="184711" h="21600">
                <a:moveTo>
                  <a:pt x="184711" y="0"/>
                </a:moveTo>
                <a:lnTo>
                  <a:pt x="184711" y="21600"/>
                </a:lnTo>
                <a:lnTo>
                  <a:pt x="183311" y="20200"/>
                </a:lnTo>
                <a:lnTo>
                  <a:pt x="183311" y="1400"/>
                </a:lnTo>
                <a:close/>
              </a:path>
              <a:path fill="darkenLess" w="184711" h="21600">
                <a:moveTo>
                  <a:pt x="184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3311" y="20200"/>
                </a:lnTo>
                <a:close/>
              </a:path>
              <a:path fill="lighten" w="184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84711" h="21600">
                <a:moveTo>
                  <a:pt x="85349" y="3794"/>
                </a:moveTo>
                <a:lnTo>
                  <a:pt x="99362" y="10800"/>
                </a:lnTo>
                <a:lnTo>
                  <a:pt x="8534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6"/>
          </p:cNvPr>
          <p:cNvSpPr/>
          <p:nvPr/>
        </p:nvSpPr>
        <p:spPr>
          <a:xfrm>
            <a:off x="1295280" y="4191120"/>
            <a:ext cx="5943600" cy="761760"/>
          </a:xfrm>
          <a:custGeom>
            <a:avLst/>
            <a:gdLst>
              <a:gd name="textAreaLeft" fmla="*/ 49320 w 5943600"/>
              <a:gd name="textAreaRight" fmla="*/ 5894280 w 59436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68464" h="21600">
                <a:moveTo>
                  <a:pt x="0" y="0"/>
                </a:moveTo>
                <a:lnTo>
                  <a:pt x="168464" y="0"/>
                </a:lnTo>
                <a:lnTo>
                  <a:pt x="168464" y="21600"/>
                </a:lnTo>
                <a:lnTo>
                  <a:pt x="0" y="21600"/>
                </a:lnTo>
                <a:close/>
              </a:path>
              <a:path fill="lightenLess" w="168464" h="21600">
                <a:moveTo>
                  <a:pt x="0" y="0"/>
                </a:moveTo>
                <a:lnTo>
                  <a:pt x="168464" y="0"/>
                </a:lnTo>
                <a:lnTo>
                  <a:pt x="167064" y="1400"/>
                </a:lnTo>
                <a:lnTo>
                  <a:pt x="1400" y="1400"/>
                </a:lnTo>
                <a:close/>
              </a:path>
              <a:path fill="darken" w="168464" h="21600">
                <a:moveTo>
                  <a:pt x="168464" y="0"/>
                </a:moveTo>
                <a:lnTo>
                  <a:pt x="168464" y="21600"/>
                </a:lnTo>
                <a:lnTo>
                  <a:pt x="167064" y="20200"/>
                </a:lnTo>
                <a:lnTo>
                  <a:pt x="167064" y="1400"/>
                </a:lnTo>
                <a:close/>
              </a:path>
              <a:path fill="darkenLess" w="168464" h="21600">
                <a:moveTo>
                  <a:pt x="1684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7064" y="20200"/>
                </a:lnTo>
                <a:close/>
              </a:path>
              <a:path fill="lighten" w="1684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68464" h="21600">
                <a:moveTo>
                  <a:pt x="77225" y="3794"/>
                </a:moveTo>
                <a:lnTo>
                  <a:pt x="91238" y="10800"/>
                </a:lnTo>
                <a:lnTo>
                  <a:pt x="7722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7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school6.gif"/>
          <p:cNvPicPr/>
          <p:nvPr/>
        </p:nvPicPr>
        <p:blipFill>
          <a:blip r:embed="rId8"/>
          <a:stretch/>
        </p:blipFill>
        <p:spPr>
          <a:xfrm>
            <a:off x="6553080" y="1676520"/>
            <a:ext cx="2590920" cy="5638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C:\Documents and Settings\aa\Local Settings\Temporary Internet Files\Content.IE5\O50S4POR\MMj02839250000[1].gif"/>
          <p:cNvPicPr/>
          <p:nvPr/>
        </p:nvPicPr>
        <p:blipFill>
          <a:blip r:embed="rId9"/>
          <a:stretch/>
        </p:blipFill>
        <p:spPr>
          <a:xfrm>
            <a:off x="533520" y="52578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fish_028.gif"/>
          <p:cNvPicPr/>
          <p:nvPr/>
        </p:nvPicPr>
        <p:blipFill>
          <a:blip r:embed="rId2"/>
          <a:stretch/>
        </p:blipFill>
        <p:spPr>
          <a:xfrm>
            <a:off x="4952880" y="2057400"/>
            <a:ext cx="4191120" cy="4267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447920" y="304920"/>
            <a:ext cx="5715000" cy="1752480"/>
          </a:xfrm>
          <a:prstGeom prst="cloudCallout">
            <a:avLst>
              <a:gd name="adj1" fmla="val 39000"/>
              <a:gd name="adj2" fmla="val 132337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EŞTI UN COPIL  ISTEŢ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flamingo.gif"/>
          <p:cNvPicPr/>
          <p:nvPr/>
        </p:nvPicPr>
        <p:blipFill>
          <a:blip r:embed="rId3"/>
          <a:stretch/>
        </p:blipFill>
        <p:spPr>
          <a:xfrm>
            <a:off x="380880" y="4572000"/>
            <a:ext cx="156240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 rot="21109200">
            <a:off x="2057040" y="2895480"/>
            <a:ext cx="3657600" cy="1828800"/>
          </a:xfrm>
          <a:prstGeom prst="cloudCallout">
            <a:avLst>
              <a:gd name="adj1" fmla="val -66967"/>
              <a:gd name="adj2" fmla="val 50453"/>
            </a:avLst>
          </a:prstGeom>
          <a:solidFill>
            <a:srgbClr val="33cccc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bravoo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7" descr="shark_1.gif"/>
          <p:cNvPicPr/>
          <p:nvPr/>
        </p:nvPicPr>
        <p:blipFill>
          <a:blip r:embed="rId2"/>
          <a:stretch/>
        </p:blipFill>
        <p:spPr>
          <a:xfrm>
            <a:off x="-2057400" y="304920"/>
            <a:ext cx="7162920" cy="54100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419720" y="251460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990720"/>
            <a:ext cx="4800600" cy="1904760"/>
          </a:xfrm>
          <a:prstGeom prst="cloudCallout">
            <a:avLst>
              <a:gd name="adj1" fmla="val -57870"/>
              <a:gd name="adj2" fmla="val 103833"/>
            </a:avLst>
          </a:prstGeom>
          <a:solidFill>
            <a:srgbClr val="99cc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AI GREŞ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fish_028.gif"/>
          <p:cNvPicPr/>
          <p:nvPr/>
        </p:nvPicPr>
        <p:blipFill>
          <a:blip r:embed="rId3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fish08.gif"/>
          <p:cNvPicPr/>
          <p:nvPr/>
        </p:nvPicPr>
        <p:blipFill>
          <a:blip r:embed="rId4"/>
          <a:stretch/>
        </p:blipFill>
        <p:spPr>
          <a:xfrm>
            <a:off x="685800" y="609480"/>
            <a:ext cx="4762440" cy="857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676520" y="4800600"/>
            <a:ext cx="5943600" cy="1295280"/>
          </a:xfrm>
          <a:prstGeom prst="cloudCallout">
            <a:avLst>
              <a:gd name="adj1" fmla="val -41106"/>
              <a:gd name="adj2" fmla="val -116175"/>
            </a:avLst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ii mai  at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Ţ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Pronumele personal 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 partea de vorbire care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e locul unui substantiv (unui nume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fish_028.gif"/>
          <p:cNvPicPr/>
          <p:nvPr/>
        </p:nvPicPr>
        <p:blipFill>
          <a:blip r:embed="rId2"/>
          <a:stretch/>
        </p:blipFill>
        <p:spPr>
          <a:xfrm>
            <a:off x="838080" y="2286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fish_016.gif"/>
          <p:cNvPicPr/>
          <p:nvPr/>
        </p:nvPicPr>
        <p:blipFill>
          <a:blip r:embed="rId3"/>
          <a:stretch/>
        </p:blipFill>
        <p:spPr>
          <a:xfrm>
            <a:off x="3962520" y="4952880"/>
            <a:ext cx="3628800" cy="1524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fish_028.gif"/>
          <p:cNvPicPr/>
          <p:nvPr/>
        </p:nvPicPr>
        <p:blipFill>
          <a:blip r:embed="rId4"/>
          <a:stretch/>
        </p:blipFill>
        <p:spPr>
          <a:xfrm>
            <a:off x="7086600" y="50292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SĂ  REŢIN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Pronumele personal are  gen  numai  la  persoana  a -III- a, deoarece această persoană nu participă la dial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Tot persoana a -III-a folosim pronumele: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ânsul, dânsa, dânşii, dânse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shark_1.gif"/>
          <p:cNvPicPr/>
          <p:nvPr/>
        </p:nvPicPr>
        <p:blipFill>
          <a:blip r:embed="rId4"/>
          <a:stretch/>
        </p:blipFill>
        <p:spPr>
          <a:xfrm>
            <a:off x="152280" y="-685800"/>
            <a:ext cx="4286520" cy="3000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fish_ani.gif"/>
          <p:cNvPicPr/>
          <p:nvPr/>
        </p:nvPicPr>
        <p:blipFill>
          <a:blip r:embed="rId5"/>
          <a:stretch/>
        </p:blipFill>
        <p:spPr>
          <a:xfrm>
            <a:off x="3886200" y="5029200"/>
            <a:ext cx="5067360" cy="1357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Documents and Settings\aa\Local Settings\Temporary Internet Files\Content.IE5\O50S4POR\MMj02839250000[1].gif"/>
          <p:cNvPicPr/>
          <p:nvPr/>
        </p:nvPicPr>
        <p:blipFill>
          <a:blip r:embed="rId6"/>
          <a:stretch/>
        </p:blipFill>
        <p:spPr>
          <a:xfrm>
            <a:off x="533520" y="5181480"/>
            <a:ext cx="1218960" cy="129564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Placeholder 4" descr="  VĂ  MULŢUMIM  CĂ  NE-AŢI  URMĂRIT!"/>
          <p:cNvPicPr/>
          <p:nvPr/>
        </p:nvPicPr>
        <p:blipFill>
          <a:blip r:embed="rId2"/>
          <a:srcRect l="6012" t="0" r="6012" b="0"/>
          <a:stretch/>
        </p:blipFill>
        <p:spPr>
          <a:xfrm>
            <a:off x="0" y="0"/>
            <a:ext cx="9448920" cy="70102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sp>
        <p:nvSpPr>
          <p:cNvPr id="205" name=""/>
          <p:cNvSpPr/>
          <p:nvPr/>
        </p:nvSpPr>
        <p:spPr>
          <a:xfrm>
            <a:off x="1752480" y="1295280"/>
            <a:ext cx="6400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Times New Roman"/>
              </a:rPr>
              <a:t>VĂ MULŢUMI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00"/>
                </a:solidFill>
                <a:latin typeface="Times New Roman"/>
              </a:rPr>
              <a:t>PENTRU  ATENŢIE</a:t>
            </a:r>
            <a:r>
              <a:rPr b="0" lang="ro-RO" sz="4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2743200"/>
            <a:ext cx="563904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fff00"/>
                </a:solidFill>
                <a:latin typeface="Arial"/>
              </a:rPr>
              <a:t>LA  REVED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3962520"/>
            <a:ext cx="6172200" cy="1600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Institutor: Şerban Sim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00"/>
                </a:solidFill>
                <a:latin typeface="Arial"/>
              </a:rPr>
              <a:t>Şcoala Generală Budi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PERSOANA ŞI  NUMĂRUL  PRONUMEL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fish_016.gif"/>
          <p:cNvPicPr/>
          <p:nvPr/>
        </p:nvPicPr>
        <p:blipFill>
          <a:blip r:embed="rId2"/>
          <a:stretch/>
        </p:blipFill>
        <p:spPr>
          <a:xfrm>
            <a:off x="457200" y="152280"/>
            <a:ext cx="586728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star_fish.gif"/>
          <p:cNvPicPr/>
          <p:nvPr/>
        </p:nvPicPr>
        <p:blipFill>
          <a:blip r:embed="rId3"/>
          <a:stretch/>
        </p:blipFill>
        <p:spPr>
          <a:xfrm>
            <a:off x="6858000" y="5638680"/>
            <a:ext cx="1600200" cy="68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324000" y="2133720"/>
          <a:ext cx="8667720" cy="3143160"/>
        </p:xfrm>
        <a:graphic>
          <a:graphicData uri="http://schemas.openxmlformats.org/drawingml/2006/table">
            <a:tbl>
              <a:tblPr/>
              <a:tblGrid>
                <a:gridCol w="1143000"/>
                <a:gridCol w="2038320"/>
                <a:gridCol w="1447560"/>
                <a:gridCol w="1175040"/>
                <a:gridCol w="1415880"/>
                <a:gridCol w="144792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ărul 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ărul 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a-II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a-III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a-II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persoan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     </a:t>
                      </a:r>
                      <a:r>
                        <a:rPr b="1" lang="ro-RO" sz="16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a-III-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, 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, e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</a:t>
                      </a:r>
                      <a:r>
                        <a:rPr b="1" lang="ro-R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E  DE  POLITEŢ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Dumne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Dumneavoastr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Dumneal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</a:t>
                      </a: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Dumnea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Dumne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8710560" y="6477120"/>
            <a:ext cx="433440" cy="380880"/>
          </a:xfrm>
          <a:custGeom>
            <a:avLst/>
            <a:gdLst>
              <a:gd name="textAreaLeft" fmla="*/ 24480 w 433440"/>
              <a:gd name="textAreaRight" fmla="*/ 408960 w 433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4578" h="21600">
                <a:moveTo>
                  <a:pt x="0" y="0"/>
                </a:moveTo>
                <a:lnTo>
                  <a:pt x="24578" y="0"/>
                </a:lnTo>
                <a:lnTo>
                  <a:pt x="24578" y="21600"/>
                </a:lnTo>
                <a:lnTo>
                  <a:pt x="0" y="21600"/>
                </a:lnTo>
                <a:close/>
              </a:path>
              <a:path fill="lightenLess" w="24578" h="21600">
                <a:moveTo>
                  <a:pt x="0" y="0"/>
                </a:moveTo>
                <a:lnTo>
                  <a:pt x="24578" y="0"/>
                </a:lnTo>
                <a:lnTo>
                  <a:pt x="23178" y="1400"/>
                </a:lnTo>
                <a:lnTo>
                  <a:pt x="1400" y="1400"/>
                </a:lnTo>
                <a:close/>
              </a:path>
              <a:path fill="darken" w="24578" h="21600">
                <a:moveTo>
                  <a:pt x="24578" y="0"/>
                </a:moveTo>
                <a:lnTo>
                  <a:pt x="24578" y="21600"/>
                </a:lnTo>
                <a:lnTo>
                  <a:pt x="23178" y="20200"/>
                </a:lnTo>
                <a:lnTo>
                  <a:pt x="23178" y="1400"/>
                </a:lnTo>
                <a:close/>
              </a:path>
              <a:path fill="darkenLess" w="24578" h="21600">
                <a:moveTo>
                  <a:pt x="24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78" y="20200"/>
                </a:lnTo>
                <a:close/>
              </a:path>
              <a:path fill="lighten" w="24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78" h="21600">
                <a:moveTo>
                  <a:pt x="5282" y="3794"/>
                </a:moveTo>
                <a:lnTo>
                  <a:pt x="19295" y="10800"/>
                </a:lnTo>
                <a:lnTo>
                  <a:pt x="5282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UL  PRONUMELU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numele personale au gen numai la persoana a III 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2362320"/>
          <a:ext cx="8404200" cy="3431880"/>
        </p:xfrm>
        <a:graphic>
          <a:graphicData uri="http://schemas.openxmlformats.org/drawingml/2006/table">
            <a:tbl>
              <a:tblPr/>
              <a:tblGrid>
                <a:gridCol w="2492280"/>
                <a:gridCol w="2992680"/>
                <a:gridCol w="291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Genul</a:t>
                      </a:r>
                      <a:r>
                        <a:rPr b="1" lang="ro-RO" sz="2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mascu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Genul feminin</a:t>
                      </a:r>
                      <a:r>
                        <a:rPr b="0" lang="en-US" sz="28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Num</a:t>
                      </a:r>
                      <a:r>
                        <a:rPr b="0" lang="ro-RO" sz="24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ărul sing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, îl, l-, lui, îi, i-, dânsul,dumneal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, -o, ei, îi, i-, dânsa,dumneae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400" spc="-1" strike="noStrike">
                          <a:solidFill>
                            <a:srgbClr val="fecc50"/>
                          </a:solidFill>
                          <a:latin typeface="Arial"/>
                        </a:rPr>
                        <a:t>Număr pl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, îi, i, lor, le, li, dânşii, dumnea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, lor, le, li, dânsel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mneal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cc50"/>
                      </a:solidFill>
                    </a:lnL>
                    <a:lnR w="5760">
                      <a:solidFill>
                        <a:srgbClr val="fecc50"/>
                      </a:solidFill>
                    </a:lnR>
                    <a:lnT w="5760">
                      <a:solidFill>
                        <a:srgbClr val="fecc50"/>
                      </a:solidFill>
                    </a:lnT>
                    <a:lnB w="5760">
                      <a:solidFill>
                        <a:srgbClr val="fecc5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7" descr="fish_028.gif"/>
          <p:cNvPicPr/>
          <p:nvPr/>
        </p:nvPicPr>
        <p:blipFill>
          <a:blip r:embed="rId2"/>
          <a:stretch/>
        </p:blipFill>
        <p:spPr>
          <a:xfrm>
            <a:off x="7315200" y="434340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flamingo.gif"/>
          <p:cNvPicPr/>
          <p:nvPr/>
        </p:nvPicPr>
        <p:blipFill>
          <a:blip r:embed="rId3"/>
          <a:stretch/>
        </p:blipFill>
        <p:spPr>
          <a:xfrm>
            <a:off x="152280" y="152280"/>
            <a:ext cx="129564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ish_016.gif"/>
          <p:cNvPicPr/>
          <p:nvPr/>
        </p:nvPicPr>
        <p:blipFill>
          <a:blip r:embed="rId4"/>
          <a:stretch/>
        </p:blipFill>
        <p:spPr>
          <a:xfrm>
            <a:off x="4191120" y="5562720"/>
            <a:ext cx="3628800" cy="15238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EXERCIŢII  J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C:\Documents and Settings\aa\Local Settings\Temporary Internet Files\Content.IE5\XRXFKLVI\MCj04283650000[1].wmf"/>
          <p:cNvPicPr/>
          <p:nvPr/>
        </p:nvPicPr>
        <p:blipFill>
          <a:blip r:embed="rId2"/>
          <a:stretch/>
        </p:blipFill>
        <p:spPr>
          <a:xfrm>
            <a:off x="7086600" y="4876920"/>
            <a:ext cx="121932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 propoziţ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Eu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am citit ,,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Dumbrava  minunată”,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numele personal es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C:\Documents and Settings\aa\Local Settings\Temporary Internet Files\Content.IE5\ZND319E0\MMj02363620000[1].gif"/>
          <p:cNvPicPr/>
          <p:nvPr/>
        </p:nvPicPr>
        <p:blipFill>
          <a:blip r:embed="rId4"/>
          <a:stretch/>
        </p:blipFill>
        <p:spPr>
          <a:xfrm>
            <a:off x="7467480" y="457200"/>
            <a:ext cx="11430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Documents and Settings\aa\Local Settings\Temporary Internet Files\Content.IE5\O50S4POR\MMj02839250000[1].gif"/>
          <p:cNvPicPr/>
          <p:nvPr/>
        </p:nvPicPr>
        <p:blipFill>
          <a:blip r:embed="rId5"/>
          <a:stretch/>
        </p:blipFill>
        <p:spPr>
          <a:xfrm>
            <a:off x="533520" y="52578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752480" y="3200400"/>
            <a:ext cx="4876920" cy="7621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A. eu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962520"/>
            <a:ext cx="4876920" cy="7617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B. am cit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4724280"/>
            <a:ext cx="4876920" cy="76212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3600" spc="-1" strike="noStrike">
                <a:solidFill>
                  <a:srgbClr val="000000"/>
                </a:solidFill>
                <a:latin typeface="Arial"/>
              </a:rPr>
              <a:t>C. nici un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5943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nextslide"/>
            <a:hlinkClick r:id="rId6"/>
          </p:cNvPr>
          <p:cNvSpPr/>
          <p:nvPr/>
        </p:nvSpPr>
        <p:spPr>
          <a:xfrm>
            <a:off x="2057400" y="3276720"/>
            <a:ext cx="4343400" cy="609480"/>
          </a:xfrm>
          <a:custGeom>
            <a:avLst/>
            <a:gdLst>
              <a:gd name="textAreaLeft" fmla="*/ 39240 w 4343400"/>
              <a:gd name="textAreaRight" fmla="*/ 4304160 w 4343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3852" h="21600">
                <a:moveTo>
                  <a:pt x="0" y="0"/>
                </a:moveTo>
                <a:lnTo>
                  <a:pt x="153852" y="0"/>
                </a:lnTo>
                <a:lnTo>
                  <a:pt x="153852" y="21600"/>
                </a:lnTo>
                <a:lnTo>
                  <a:pt x="0" y="21600"/>
                </a:lnTo>
                <a:close/>
              </a:path>
              <a:path fill="lightenLess" w="153852" h="21600">
                <a:moveTo>
                  <a:pt x="0" y="0"/>
                </a:moveTo>
                <a:lnTo>
                  <a:pt x="153852" y="0"/>
                </a:lnTo>
                <a:lnTo>
                  <a:pt x="152452" y="1400"/>
                </a:lnTo>
                <a:lnTo>
                  <a:pt x="1400" y="1400"/>
                </a:lnTo>
                <a:close/>
              </a:path>
              <a:path fill="darken" w="153852" h="21600">
                <a:moveTo>
                  <a:pt x="153852" y="0"/>
                </a:moveTo>
                <a:lnTo>
                  <a:pt x="153852" y="21600"/>
                </a:lnTo>
                <a:lnTo>
                  <a:pt x="152452" y="20200"/>
                </a:lnTo>
                <a:lnTo>
                  <a:pt x="152452" y="1400"/>
                </a:lnTo>
                <a:close/>
              </a:path>
              <a:path fill="darkenLess" w="153852" h="21600">
                <a:moveTo>
                  <a:pt x="1538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2452" y="20200"/>
                </a:lnTo>
                <a:close/>
              </a:path>
              <a:path fill="lighten" w="1538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3852" h="21600">
                <a:moveTo>
                  <a:pt x="69920" y="3794"/>
                </a:moveTo>
                <a:lnTo>
                  <a:pt x="83933" y="10800"/>
                </a:lnTo>
                <a:lnTo>
                  <a:pt x="699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7" action="ppaction://hlinksldjump"/>
          </p:cNvPr>
          <p:cNvSpPr/>
          <p:nvPr/>
        </p:nvSpPr>
        <p:spPr>
          <a:xfrm>
            <a:off x="2057400" y="3886200"/>
            <a:ext cx="4191120" cy="76212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39" h="21600">
                <a:moveTo>
                  <a:pt x="0" y="0"/>
                </a:moveTo>
                <a:lnTo>
                  <a:pt x="118739" y="0"/>
                </a:lnTo>
                <a:lnTo>
                  <a:pt x="118739" y="21600"/>
                </a:lnTo>
                <a:lnTo>
                  <a:pt x="0" y="21600"/>
                </a:lnTo>
                <a:close/>
              </a:path>
              <a:path fill="lightenLess" w="118739" h="21600">
                <a:moveTo>
                  <a:pt x="0" y="0"/>
                </a:moveTo>
                <a:lnTo>
                  <a:pt x="118739" y="0"/>
                </a:lnTo>
                <a:lnTo>
                  <a:pt x="117339" y="1400"/>
                </a:lnTo>
                <a:lnTo>
                  <a:pt x="1400" y="1400"/>
                </a:lnTo>
                <a:close/>
              </a:path>
              <a:path fill="darken" w="118739" h="21600">
                <a:moveTo>
                  <a:pt x="118739" y="0"/>
                </a:moveTo>
                <a:lnTo>
                  <a:pt x="118739" y="21600"/>
                </a:lnTo>
                <a:lnTo>
                  <a:pt x="117339" y="20200"/>
                </a:lnTo>
                <a:lnTo>
                  <a:pt x="117339" y="1400"/>
                </a:lnTo>
                <a:close/>
              </a:path>
              <a:path fill="darkenLess" w="118739" h="21600">
                <a:moveTo>
                  <a:pt x="118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9" y="20200"/>
                </a:lnTo>
                <a:close/>
              </a:path>
              <a:path fill="lighten" w="118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18739" h="21600">
                <a:moveTo>
                  <a:pt x="52363" y="3794"/>
                </a:moveTo>
                <a:lnTo>
                  <a:pt x="66376" y="10800"/>
                </a:lnTo>
                <a:lnTo>
                  <a:pt x="5236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8" action="ppaction://hlinksldjump"/>
          </p:cNvPr>
          <p:cNvSpPr/>
          <p:nvPr/>
        </p:nvSpPr>
        <p:spPr>
          <a:xfrm>
            <a:off x="1981080" y="4800600"/>
            <a:ext cx="4496040" cy="609480"/>
          </a:xfrm>
          <a:custGeom>
            <a:avLst/>
            <a:gdLst>
              <a:gd name="textAreaLeft" fmla="*/ 39240 w 4496040"/>
              <a:gd name="textAreaRight" fmla="*/ 4456800 w 4496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59259" h="21600">
                <a:moveTo>
                  <a:pt x="0" y="0"/>
                </a:moveTo>
                <a:lnTo>
                  <a:pt x="159259" y="0"/>
                </a:lnTo>
                <a:lnTo>
                  <a:pt x="159259" y="21600"/>
                </a:lnTo>
                <a:lnTo>
                  <a:pt x="0" y="21600"/>
                </a:lnTo>
                <a:close/>
              </a:path>
              <a:path fill="lightenLess" w="159259" h="21600">
                <a:moveTo>
                  <a:pt x="0" y="0"/>
                </a:moveTo>
                <a:lnTo>
                  <a:pt x="159259" y="0"/>
                </a:lnTo>
                <a:lnTo>
                  <a:pt x="157859" y="1400"/>
                </a:lnTo>
                <a:lnTo>
                  <a:pt x="1400" y="1400"/>
                </a:lnTo>
                <a:close/>
              </a:path>
              <a:path fill="darken" w="159259" h="21600">
                <a:moveTo>
                  <a:pt x="159259" y="0"/>
                </a:moveTo>
                <a:lnTo>
                  <a:pt x="159259" y="21600"/>
                </a:lnTo>
                <a:lnTo>
                  <a:pt x="157859" y="20200"/>
                </a:lnTo>
                <a:lnTo>
                  <a:pt x="157859" y="1400"/>
                </a:lnTo>
                <a:close/>
              </a:path>
              <a:path fill="darkenLess" w="159259" h="21600">
                <a:moveTo>
                  <a:pt x="159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7859" y="20200"/>
                </a:lnTo>
                <a:close/>
              </a:path>
              <a:path fill="lighten" w="159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9259" h="21600">
                <a:moveTo>
                  <a:pt x="72623" y="3794"/>
                </a:moveTo>
                <a:lnTo>
                  <a:pt x="86636" y="10800"/>
                </a:lnTo>
                <a:lnTo>
                  <a:pt x="7262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9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school6.gif"/>
          <p:cNvPicPr/>
          <p:nvPr/>
        </p:nvPicPr>
        <p:blipFill>
          <a:blip r:embed="rId2"/>
          <a:stretch/>
        </p:blipFill>
        <p:spPr>
          <a:xfrm>
            <a:off x="5943600" y="0"/>
            <a:ext cx="3200400" cy="6248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fish.gif"/>
          <p:cNvPicPr/>
          <p:nvPr/>
        </p:nvPicPr>
        <p:blipFill>
          <a:blip r:embed="rId3"/>
          <a:stretch/>
        </p:blipFill>
        <p:spPr>
          <a:xfrm>
            <a:off x="228600" y="4572000"/>
            <a:ext cx="1981080" cy="2048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429000" y="198108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1676520"/>
            <a:ext cx="914400" cy="6094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380880"/>
            <a:ext cx="4724280" cy="1600200"/>
          </a:xfrm>
          <a:prstGeom prst="wedgeEllipseCallout">
            <a:avLst>
              <a:gd name="adj1" fmla="val 89717"/>
              <a:gd name="adj2" fmla="val 96328"/>
            </a:avLst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000000"/>
                </a:solidFill>
                <a:latin typeface="Arial"/>
              </a:rPr>
              <a:t>COREC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352680"/>
            <a:ext cx="3657600" cy="1905120"/>
          </a:xfrm>
          <a:prstGeom prst="cloudCallout">
            <a:avLst>
              <a:gd name="adj1" fmla="val 80731"/>
              <a:gd name="adj2" fmla="val 60416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ŞTI FOARTE DEŞTEP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shark_1.gif"/>
          <p:cNvPicPr/>
          <p:nvPr/>
        </p:nvPicPr>
        <p:blipFill>
          <a:blip r:embed="rId2"/>
          <a:stretch/>
        </p:blipFill>
        <p:spPr>
          <a:xfrm>
            <a:off x="-1371600" y="228600"/>
            <a:ext cx="6858000" cy="5334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 rot="442200">
            <a:off x="3962160" y="914040"/>
            <a:ext cx="4572000" cy="1828800"/>
          </a:xfrm>
          <a:prstGeom prst="wedgeEllipseCallout">
            <a:avLst>
              <a:gd name="adj1" fmla="val -63263"/>
              <a:gd name="adj2" fmla="val 65018"/>
            </a:avLst>
          </a:pr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Ai  greş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3886200"/>
            <a:ext cx="5943600" cy="1295280"/>
          </a:xfrm>
          <a:prstGeom prst="cloudCallout">
            <a:avLst>
              <a:gd name="adj1" fmla="val -35125"/>
              <a:gd name="adj2" fmla="val -86763"/>
            </a:avLst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ii mai  at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fish_016.gif"/>
          <p:cNvPicPr/>
          <p:nvPr/>
        </p:nvPicPr>
        <p:blipFill>
          <a:blip r:embed="rId4"/>
          <a:stretch/>
        </p:blipFill>
        <p:spPr>
          <a:xfrm>
            <a:off x="4114800" y="-152280"/>
            <a:ext cx="3629160" cy="1523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fish_016.gif"/>
          <p:cNvPicPr/>
          <p:nvPr/>
        </p:nvPicPr>
        <p:blipFill>
          <a:blip r:embed="rId5"/>
          <a:stretch/>
        </p:blipFill>
        <p:spPr>
          <a:xfrm>
            <a:off x="4114800" y="5334120"/>
            <a:ext cx="36291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4000" spc="-1" strike="noStrike">
                <a:solidFill>
                  <a:srgbClr val="000000"/>
                </a:solidFill>
                <a:latin typeface="Arial"/>
              </a:rPr>
              <a:t>Pronumele personal  a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514600"/>
            <a:ext cx="5029200" cy="7621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. două perso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3505320"/>
            <a:ext cx="5029200" cy="76176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B. trei persoane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76520" y="4495680"/>
            <a:ext cx="5029200" cy="7621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C. niciuna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shark_1.gif"/>
          <p:cNvPicPr/>
          <p:nvPr/>
        </p:nvPicPr>
        <p:blipFill>
          <a:blip r:embed="rId3"/>
          <a:stretch/>
        </p:blipFill>
        <p:spPr>
          <a:xfrm>
            <a:off x="-609480" y="-609480"/>
            <a:ext cx="4286160" cy="300024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fish_ani.gif"/>
          <p:cNvPicPr/>
          <p:nvPr/>
        </p:nvPicPr>
        <p:blipFill>
          <a:blip r:embed="rId4"/>
          <a:stretch/>
        </p:blipFill>
        <p:spPr>
          <a:xfrm>
            <a:off x="3505320" y="5410080"/>
            <a:ext cx="4724280" cy="12146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  <a:hlinkClick r:id="rId5"/>
          </p:cNvPr>
          <p:cNvSpPr/>
          <p:nvPr/>
        </p:nvSpPr>
        <p:spPr>
          <a:xfrm>
            <a:off x="1676520" y="2438280"/>
            <a:ext cx="5029200" cy="890640"/>
          </a:xfrm>
          <a:custGeom>
            <a:avLst/>
            <a:gdLst>
              <a:gd name="textAreaLeft" fmla="*/ 57600 w 5029200"/>
              <a:gd name="textAreaRight" fmla="*/ 4971600 w 50292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121929" h="21600">
                <a:moveTo>
                  <a:pt x="0" y="0"/>
                </a:moveTo>
                <a:lnTo>
                  <a:pt x="121929" y="0"/>
                </a:lnTo>
                <a:lnTo>
                  <a:pt x="121929" y="21600"/>
                </a:lnTo>
                <a:lnTo>
                  <a:pt x="0" y="21600"/>
                </a:lnTo>
                <a:close/>
              </a:path>
              <a:path fill="lightenLess" w="121929" h="21600">
                <a:moveTo>
                  <a:pt x="0" y="0"/>
                </a:moveTo>
                <a:lnTo>
                  <a:pt x="121929" y="0"/>
                </a:lnTo>
                <a:lnTo>
                  <a:pt x="120529" y="1400"/>
                </a:lnTo>
                <a:lnTo>
                  <a:pt x="1400" y="1400"/>
                </a:lnTo>
                <a:close/>
              </a:path>
              <a:path fill="darken" w="121929" h="21600">
                <a:moveTo>
                  <a:pt x="121929" y="0"/>
                </a:moveTo>
                <a:lnTo>
                  <a:pt x="121929" y="21600"/>
                </a:lnTo>
                <a:lnTo>
                  <a:pt x="120529" y="20200"/>
                </a:lnTo>
                <a:lnTo>
                  <a:pt x="120529" y="1400"/>
                </a:lnTo>
                <a:close/>
              </a:path>
              <a:path fill="darkenLess" w="121929" h="21600">
                <a:moveTo>
                  <a:pt x="121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529" y="20200"/>
                </a:lnTo>
                <a:close/>
              </a:path>
              <a:path fill="lighten" w="121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1929" h="21600">
                <a:moveTo>
                  <a:pt x="53958" y="3794"/>
                </a:moveTo>
                <a:lnTo>
                  <a:pt x="67971" y="10800"/>
                </a:lnTo>
                <a:lnTo>
                  <a:pt x="5395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rId6" action="ppaction://hlinksldjump"/>
          </p:cNvPr>
          <p:cNvSpPr/>
          <p:nvPr/>
        </p:nvSpPr>
        <p:spPr>
          <a:xfrm>
            <a:off x="1600200" y="3505320"/>
            <a:ext cx="5105520" cy="761760"/>
          </a:xfrm>
          <a:custGeom>
            <a:avLst/>
            <a:gdLst>
              <a:gd name="textAreaLeft" fmla="*/ 49320 w 5105520"/>
              <a:gd name="textAreaRight" fmla="*/ 5056200 w 51055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44711" h="21600">
                <a:moveTo>
                  <a:pt x="0" y="0"/>
                </a:moveTo>
                <a:lnTo>
                  <a:pt x="144711" y="0"/>
                </a:lnTo>
                <a:lnTo>
                  <a:pt x="144711" y="21600"/>
                </a:lnTo>
                <a:lnTo>
                  <a:pt x="0" y="21600"/>
                </a:lnTo>
                <a:close/>
              </a:path>
              <a:path fill="lightenLess" w="144711" h="21600">
                <a:moveTo>
                  <a:pt x="0" y="0"/>
                </a:moveTo>
                <a:lnTo>
                  <a:pt x="144711" y="0"/>
                </a:lnTo>
                <a:lnTo>
                  <a:pt x="143311" y="1400"/>
                </a:lnTo>
                <a:lnTo>
                  <a:pt x="1400" y="1400"/>
                </a:lnTo>
                <a:close/>
              </a:path>
              <a:path fill="darken" w="144711" h="21600">
                <a:moveTo>
                  <a:pt x="144711" y="0"/>
                </a:moveTo>
                <a:lnTo>
                  <a:pt x="144711" y="21600"/>
                </a:lnTo>
                <a:lnTo>
                  <a:pt x="143311" y="20200"/>
                </a:lnTo>
                <a:lnTo>
                  <a:pt x="143311" y="1400"/>
                </a:lnTo>
                <a:close/>
              </a:path>
              <a:path fill="darkenLess" w="144711" h="21600">
                <a:moveTo>
                  <a:pt x="1447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311" y="20200"/>
                </a:lnTo>
                <a:close/>
              </a:path>
              <a:path fill="lighten" w="1447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4711" h="21600">
                <a:moveTo>
                  <a:pt x="65349" y="3794"/>
                </a:moveTo>
                <a:lnTo>
                  <a:pt x="79362" y="10800"/>
                </a:lnTo>
                <a:lnTo>
                  <a:pt x="6534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7" action="ppaction://hlinksldjump"/>
          </p:cNvPr>
          <p:cNvSpPr/>
          <p:nvPr/>
        </p:nvSpPr>
        <p:spPr>
          <a:xfrm>
            <a:off x="1676520" y="4419720"/>
            <a:ext cx="5029200" cy="761760"/>
          </a:xfrm>
          <a:custGeom>
            <a:avLst/>
            <a:gdLst>
              <a:gd name="textAreaLeft" fmla="*/ 49320 w 5029200"/>
              <a:gd name="textAreaRight" fmla="*/ 4979880 w 50292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42548" h="21600">
                <a:moveTo>
                  <a:pt x="0" y="0"/>
                </a:moveTo>
                <a:lnTo>
                  <a:pt x="142548" y="0"/>
                </a:lnTo>
                <a:lnTo>
                  <a:pt x="142548" y="21600"/>
                </a:lnTo>
                <a:lnTo>
                  <a:pt x="0" y="21600"/>
                </a:lnTo>
                <a:close/>
              </a:path>
              <a:path fill="lightenLess" w="142548" h="21600">
                <a:moveTo>
                  <a:pt x="0" y="0"/>
                </a:moveTo>
                <a:lnTo>
                  <a:pt x="142548" y="0"/>
                </a:lnTo>
                <a:lnTo>
                  <a:pt x="141148" y="1400"/>
                </a:lnTo>
                <a:lnTo>
                  <a:pt x="1400" y="1400"/>
                </a:lnTo>
                <a:close/>
              </a:path>
              <a:path fill="darken" w="142548" h="21600">
                <a:moveTo>
                  <a:pt x="142548" y="0"/>
                </a:moveTo>
                <a:lnTo>
                  <a:pt x="142548" y="21600"/>
                </a:lnTo>
                <a:lnTo>
                  <a:pt x="141148" y="20200"/>
                </a:lnTo>
                <a:lnTo>
                  <a:pt x="141148" y="1400"/>
                </a:lnTo>
                <a:close/>
              </a:path>
              <a:path fill="darkenLess" w="142548" h="21600">
                <a:moveTo>
                  <a:pt x="142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148" y="20200"/>
                </a:lnTo>
                <a:close/>
              </a:path>
              <a:path fill="lighten" w="142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42548" h="21600">
                <a:moveTo>
                  <a:pt x="64267" y="3794"/>
                </a:moveTo>
                <a:lnTo>
                  <a:pt x="78280" y="10800"/>
                </a:lnTo>
                <a:lnTo>
                  <a:pt x="6426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  <a:hlinkClick r:id="rId8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7" descr="shark_1.gif"/>
          <p:cNvPicPr/>
          <p:nvPr/>
        </p:nvPicPr>
        <p:blipFill>
          <a:blip r:embed="rId2"/>
          <a:stretch/>
        </p:blipFill>
        <p:spPr>
          <a:xfrm>
            <a:off x="-2057400" y="304920"/>
            <a:ext cx="7162920" cy="5410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51460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990720"/>
            <a:ext cx="4800600" cy="1904760"/>
          </a:xfrm>
          <a:prstGeom prst="cloudCallout">
            <a:avLst>
              <a:gd name="adj1" fmla="val -57870"/>
              <a:gd name="adj2" fmla="val 103833"/>
            </a:avLst>
          </a:prstGeom>
          <a:solidFill>
            <a:srgbClr val="ffcc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Arial"/>
              </a:rPr>
              <a:t>AI GREŞI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fish_028.gif"/>
          <p:cNvPicPr/>
          <p:nvPr/>
        </p:nvPicPr>
        <p:blipFill>
          <a:blip r:embed="rId3"/>
          <a:stretch/>
        </p:blipFill>
        <p:spPr>
          <a:xfrm>
            <a:off x="7620120" y="53341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ish08.gif"/>
          <p:cNvPicPr/>
          <p:nvPr/>
        </p:nvPicPr>
        <p:blipFill>
          <a:blip r:embed="rId4"/>
          <a:stretch/>
        </p:blipFill>
        <p:spPr>
          <a:xfrm>
            <a:off x="685800" y="609480"/>
            <a:ext cx="4762440" cy="857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76520" y="4800600"/>
            <a:ext cx="5943600" cy="1295280"/>
          </a:xfrm>
          <a:prstGeom prst="cloudCallout">
            <a:avLst>
              <a:gd name="adj1" fmla="val -41106"/>
              <a:gd name="adj2" fmla="val -116175"/>
            </a:avLst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ii mai  at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9:55:29Z</dcterms:created>
  <dc:creator>Mona</dc:creator>
  <dc:description/>
  <dc:language>en-US</dc:language>
  <cp:lastModifiedBy>Mona</cp:lastModifiedBy>
  <dcterms:modified xsi:type="dcterms:W3CDTF">2009-11-25T17:21:29Z</dcterms:modified>
  <cp:revision>7</cp:revision>
  <dc:subject/>
  <dc:title>Slide 1</dc:title>
</cp:coreProperties>
</file>